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5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6905880" y="3681360"/>
            <a:ext cx="112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K. News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660720" y="571500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67840" y="5433840"/>
            <a:ext cx="1047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L. Russ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3840" y="604368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P. Mo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8240" y="6464160"/>
            <a:ext cx="8662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4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880" y="6434280"/>
            <a:ext cx="887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                               32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80" y="6434280"/>
            <a:ext cx="887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                               33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905880" y="3681360"/>
            <a:ext cx="112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K. News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60720" y="571500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0320" y="5433840"/>
            <a:ext cx="1701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nald S. Crand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23840" y="604368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P. Mo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8240" y="6464160"/>
            <a:ext cx="86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5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11200" y="368136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02560" y="571500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8720" y="5433840"/>
            <a:ext cx="141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Michael H. Al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23840" y="604368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P. Mo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240" y="6464160"/>
            <a:ext cx="86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6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29560" y="3681360"/>
            <a:ext cx="1120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K. News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0720" y="5638680"/>
            <a:ext cx="1518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Mamie M. M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6640" y="5433840"/>
            <a:ext cx="1701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Ronald S. Crand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840" y="604368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P. Mor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240" y="6464160"/>
            <a:ext cx="869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7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22360" y="3681360"/>
            <a:ext cx="130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Aaron E. 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2560" y="5715000"/>
            <a:ext cx="115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ush Script MT"/>
              </a:rPr>
              <a:t>John C. 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0400" y="5433840"/>
            <a:ext cx="148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Nathan A. Cl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7240" y="6043680"/>
            <a:ext cx="94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ush Script MT"/>
              </a:rPr>
              <a:t>J.T. Fie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8240" y="6464160"/>
            <a:ext cx="8662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9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5880" y="1892160"/>
            <a:ext cx="49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880" y="6434280"/>
            <a:ext cx="887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                                                                                                                  28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000" y="6434280"/>
            <a:ext cx="8892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 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29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880" y="6434280"/>
            <a:ext cx="887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                               30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8760" y="914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760" y="1752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760" y="21337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760" y="28954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760" y="32004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" y="38862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8760" y="41911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8760" y="44956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" y="48006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760" y="51055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" y="541008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571500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" y="6019920"/>
            <a:ext cx="88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917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920880"/>
            <a:ext cx="0" cy="50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880" y="6434280"/>
            <a:ext cx="8907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 1                                                                                                                    31                                                                                                             SEP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9960" y="216000"/>
            <a:ext cx="84963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C ___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54TH (MECH) INF DIV                                                               PAGE ____ OF 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OR ______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FUND CONTROL RECORD                                                      UNIT/ACTIVITY  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                      DOCU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.          DATE     REFERENCE     FUNDING     COMMITMENT     UNCOMMITTED BALANCE       DOR/DCR          OBLIGATION     REMARK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         TARGET          AMOUNT                                                            DATE/BLOCK          AMOU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              (B)              (C)                     (D)                   (E)                                       (F)                             (G)                        (H)                     (I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14:12:01Z</dcterms:created>
  <dc:creator>SFC Clifton Craig</dc:creator>
  <dc:description/>
  <dc:language>en-US</dc:language>
  <cp:lastModifiedBy>Administrator</cp:lastModifiedBy>
  <cp:lastPrinted>2000-01-25T21:11:55Z</cp:lastPrinted>
  <dcterms:modified xsi:type="dcterms:W3CDTF">2004-09-16T18:22:24Z</dcterms:modified>
  <cp:revision>4</cp:revision>
  <dc:subject/>
  <dc:title>No Slide Title</dc:title>
</cp:coreProperties>
</file>